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E7A6-AC65-41A0-8915-78D011221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8F4B-3AD7-4758-9163-64246C36F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20C3-6B87-4652-A5EC-EFEC34E04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4A5B-A996-4279-AD26-9CB149FBD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07A70A-BFD0-4FE2-91CC-7066AA68C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3BD0DC-50B7-4E53-8BC1-5D546B331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AB7A9F-CCA1-4DD3-B7F2-DCE8A2DDE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95B7DA-E2D6-4617-B4D2-C3C33D0DB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582B2D-20B3-486F-B4AB-200DA6173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AE2878-0519-44FC-BD4C-01656B176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AE0559-AAAB-4DDF-97C6-F77BA35B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4A87-40F9-4E4A-9D4A-B79B26BF3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FFC9F7-4115-40C8-AEB1-E3B60FCC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1F8EB2-E107-4710-AAAE-8A7DA3D3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20B18C-24A7-4409-B9FD-405D28852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2F9C4B-DE0C-4A54-8E08-A0B792D29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E2D872-C2DF-49BB-9797-3BB71CF89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B822-724D-4344-97FF-B14927CFC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B60C-8ECB-4F13-8039-29E2223EB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20D8-05CF-4AC4-BEF5-E6E9953C5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3F10-1C21-4187-97AE-934E64B25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3607-F888-4B0C-9EE8-E8BEF393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DCB2-C04C-45DE-9217-1241EDCE6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3132-F6ED-441B-AB2F-DEBBB8B4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2F8DF-3C99-40C2-9724-490A89BE30E5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A7614-194D-4970-B4D5-763582E2FF3E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amera.wav" TargetMode="External"/><Relationship Id="rId2" Type="http://schemas.microsoft.com/office/2007/relationships/media" Target="file:///tmp/home/.config/libreoffice/4/user/gallery/camera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990720" y="1295280"/>
            <a:ext cx="7416720" cy="422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معيار المحاسبة المصرى رقم (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14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) 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IAS 23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تكلفة الاقتراض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</p:txBody>
      </p:sp>
      <p:pic>
        <p:nvPicPr>
          <p:cNvPr id="12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2860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audio isNarration="0">
              <p:cMediaNode showWhenStopped="1">
                <p:cTn/>
                <p:tgtEl>
                  <p:spTgt spid="123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916000" y="1267920"/>
            <a:ext cx="57704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حالات صعوبة ربط تكلفة الاقتراض بالأصل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حدد قيمة تكلفة الاقتراض التى يمكن رسملتها باستخدام معدل للرسملة يحسب على أساس المتوسط المرجح لتكلفة الاقتراض للمنشأة عن القروض القائمة خلال المد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هنا تستبعد القروض التى تم إبرامها تحديداً بغرض إقتناء أصل بذات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جب ألا تزيد قيمة تكلفة الاقتراض المرسملة خلال فترة ما عن قيمة تكلفة الاقتراض التى تم تكبدها خلال تلك الفتر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659280" y="620280"/>
            <a:ext cx="202716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بدء الرسملة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87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عندما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4920" indent="0" algn="r" rtl="1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(أ)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م الإنفاق على الأص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7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  (ب) تكبد المنشأة تكلفة إقتراض 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7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  (ج) تكون الأنشطة اللازمة لإعداد الأصل للاستخدام فى الأغراض المحددة له أو بيعه للغير محل تنفيذ فى الوقت الحالى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752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7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لاحظ   ( و )    ليس   ( أو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580000" y="404280"/>
            <a:ext cx="30463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توقف عن الرسملة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136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 rtl="1">
              <a:spcBef>
                <a:spcPts val="601"/>
              </a:spcBef>
              <a:spcAft>
                <a:spcPts val="1349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يجب التوقف عن رسملة تكلفة الاقتراض خلال الفترات التى تتعطل فيها أعمال الإنشاء الفعالة للأص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 rtl="1">
              <a:spcBef>
                <a:spcPts val="601"/>
              </a:spcBef>
              <a:spcAft>
                <a:spcPts val="1349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ا يتم تعليق رسملة تكلفة الاقتراض عندما يكون التوقف المؤقت بمثابة خطوة ضرورية فى عملية إعداد الأصل للاستخدام فى الأغراض المحددة  له أو لبيعه للغير مثل الفترات المطلوبة لنضج المخزون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 rtl="1">
              <a:spcBef>
                <a:spcPts val="601"/>
              </a:spcBef>
              <a:spcAft>
                <a:spcPts val="1349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يجب الانتهاء من عملية رسملة تكلفة الاقتراض عندما يتم الانتهاء من كل الأنشطة الجوهرية اللازم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ل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إعداد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الأصل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 rtl="1">
              <a:spcBef>
                <a:spcPts val="601"/>
              </a:spcBef>
              <a:spcAft>
                <a:spcPts val="1349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عندما يتم الانتهاء من إنشاء أجزاء من الأصل و يكون من الممكن استخدام كل جزء من هذه الأجزاء أثناء استمرار عملية إنشاء باقى الأجزاء الأخرى فإنه يتعين التوقف عن رسملة تكلفة الاقتراض على الأجزاء</a:t>
            </a:r>
            <a:r>
              <a:rPr b="1" i="1" lang="ar-SA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308720" y="475920"/>
            <a:ext cx="1378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مثـــال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3516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الشركة حصلت على القروض الآتية خلال عام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2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لتمويل مشروعاتها المتضمنة إنشاء مشروع مدينة سكنية: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-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 قرض لمد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سنوات بمعدل فائد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 سنوياً خاصة بمشروع المدينة السكن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-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 قرض لمد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سنوات بمعدل فائد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 سنوياً خاصة بمشروع آخ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-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 لمد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سنوات بفائد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 سنويا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4-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 قرض لمد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سنوات بفائد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 سنويا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     وقد بلغت المبالغ المنفقة على مشروع المدينة السكنية خلال عام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2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مبلغ </a:t>
            </a:r>
            <a:br>
              <a:rPr sz="2400"/>
            </a:b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ffff00"/>
                </a:solidFill>
                <a:uFillTx/>
                <a:latin typeface="Arial"/>
              </a:rPr>
              <a:t>المطلوب: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تحديد تكلفة الاقتراض الواجب رسملتها على مشروع المدينة السكن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أ  - تكلفة الاقتراض الخاصة بالقرض الاول المخصص للمشرو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 ×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 =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ب – تكلفة الاقتراض الخاصة بالقروض الاخر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الفائدة المحتسبة على القرض الثالث =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×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 =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48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الفائدة المحتسبة على القرض الرابع =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×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 =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6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تكلفة الاقترا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معدل الرسملة = ـــــــــــــــــــــــــــــــــــــــــــــــــــ ×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      المتوسط المرجح للقرو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93080" y="836640"/>
            <a:ext cx="129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00"/>
                </a:solidFill>
                <a:latin typeface="Arial"/>
              </a:rPr>
              <a:t>الحــل: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94920" y="1599840"/>
            <a:ext cx="806436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48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r" rtl="1">
              <a:lnSpc>
                <a:spcPct val="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=  ــــــــــــــــــــــــــــــــــــــــــــــــــ ×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8.4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نصيب المشروع = 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×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8.4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 =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72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ج – تكلفة الاقتراض التى يجب رسملتها =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672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672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 جني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50920" y="907560"/>
            <a:ext cx="224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محتويــــات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79280" y="2205000"/>
            <a:ext cx="47530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هدف المعيا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المعالجة القياسي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المعالجة البديلة المسموح به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03640" y="2781000"/>
            <a:ext cx="244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هدف المعيار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 rtl="1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هدف هذا المعيار إلى تحديد المعالجة المحاسبية لتكلفة الاقتراض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 rtl="1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طلب هذا المعيار بشكل عام معالجة تكاليف الاقتراض كمصروفات فور تكبدها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ff00"/>
                </a:solidFill>
                <a:uFillTx/>
                <a:latin typeface="Arial"/>
              </a:rPr>
              <a:t>المعالجة البديل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 rtl="1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سمح كمعالجة بديلة برسملة تكلفة الاقتراض التى ترجع مباشرة إلى اقتناء أو إنشاء أو إنتاج أصل مؤهل لتحمل تكلفة الاقتراض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6443280" y="691920"/>
            <a:ext cx="224316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هدف المعيار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59280" y="2565000"/>
            <a:ext cx="345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المعالجة القياسية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867280" y="1125360"/>
            <a:ext cx="281952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معالجة القياسية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3628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 rtl="1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ثبت تكلفة الاقتراض كمصروفات تحمل على الفترة التى تكبدت فيها المنشأة هذه التكلف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جب الإفصاح فى القوائم المالية عن السياسة المحاسبية المتبعة لمعالجة تكلفة الاقتراض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56000" y="270792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المعالجة البديلة المسموح بها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140000" y="620640"/>
            <a:ext cx="454644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معالجة البديلة المسموح بها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م رسملة تكلفة الاقتراض المتعلقة مباشرة باقتناء أو إنشاء أو إنتاج الأصل الذى يتطلب بالضرورة فترة زمنية طويلة لتجهيزه للاستخدام فى الأغراض المحددة له أو لبيعه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just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يتم رسملة تكلفة الاقتراض هذه ضمن تكلفة الأصل عندما يكون متوقعاً أن تتسبب فى خلق منافع اقتصادية مستقبلية للمنشأة وتكون هناك إمكانية لقياس التكلفة بشكل يمكن الاعتماد عليه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95280" y="1196640"/>
            <a:ext cx="469116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تكلفة الإقتراض المؤهلة للرسملة</a:t>
            </a:r>
            <a:r>
              <a:rPr b="1" lang="ar-SA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242100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هى تكلفة الاقتراض التى  كان يمكن تجنبها إذا لم يتم الإنفاق على هذا الأص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طرح من تكلفة الاقتراض المرسملة أى إيراد تحقق من الاستثمار المؤقت للأموال المقترض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م تخفيض أو استبعاد الزيادة فى القيمة الدفترية للأصل نتيجة الرسملة عن قيمته الإستردادية من القيمة الدفترية للأصل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20:05:14Z</dcterms:created>
  <dc:creator>Eissa</dc:creator>
  <dc:description/>
  <dc:language>en-US</dc:language>
  <cp:lastModifiedBy>m.farouk</cp:lastModifiedBy>
  <dcterms:modified xsi:type="dcterms:W3CDTF">2006-11-13T09:02:30Z</dcterms:modified>
  <cp:revision>19</cp:revision>
  <dc:subject/>
  <dc:title>معيار المحاسبة المصرى رقم (14) تكلفة الاقتراض</dc:title>
</cp:coreProperties>
</file>